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19.jpeg" ContentType="image/jpeg"/>
  <Override PartName="/ppt/media/image9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13.png" ContentType="image/png"/>
  <Override PartName="/ppt/media/image8.png" ContentType="image/png"/>
  <Override PartName="/ppt/media/image14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18.png" ContentType="image/png"/>
  <Override PartName="/ppt/media/image17.png" ContentType="image/png"/>
  <Override PartName="/ppt/media/image15.png" ContentType="image/png"/>
  <Override PartName="/ppt/media/image5.jpeg" ContentType="image/jpeg"/>
  <Override PartName="/ppt/media/image23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10.png" ContentType="image/png"/>
  <Override PartName="/ppt/media/image6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8A79E-5B70-4E55-9E6A-498E73768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0A0C1-61C1-4D90-86A3-704AAEB97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98920-7E69-4930-AEF3-808954519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A2760-4C30-49F2-A293-D1DD6F119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C0F9F-D4D3-4704-9C85-B1E132400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E380A-6131-4D68-93F3-073069A14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4A5EB-0BCE-4183-99D6-1ACAEE8ED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C88CA-8255-4123-9749-A6DC57475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EB27F-29D0-488D-96A6-40BC2C2A3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6F0E7-CA81-43B5-BBE1-3DB03CEE2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4C422-70A9-4FD4-81B6-0F7F004F3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E6D36-3545-4D74-A6DB-0A5D13563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8C777-F791-4519-A643-75A7446D07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00000" y="0"/>
            <a:ext cx="7417080" cy="22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Тема урок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0000"/>
                </a:solidFill>
                <a:uFillTx/>
                <a:latin typeface="Monotype Corsiva"/>
              </a:rPr>
              <a:t>Русская выхухоль имеет право на жизнь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1989000"/>
            <a:ext cx="48960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21718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5076720" y="2276640"/>
            <a:ext cx="3718080" cy="43178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95280" y="2708280"/>
            <a:ext cx="460836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Цель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изучить особенности биологии и экологии русской выхухоли, знание которых         необходимо для разработки мер по охране и сохранению вид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2124000" y="333360"/>
            <a:ext cx="478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Arial"/>
              </a:rPr>
              <a:t>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Выхухоль"/>
          <p:cNvPicPr/>
          <p:nvPr/>
        </p:nvPicPr>
        <p:blipFill>
          <a:blip r:embed="rId2"/>
          <a:stretch/>
        </p:blipFill>
        <p:spPr>
          <a:xfrm>
            <a:off x="4356000" y="2781360"/>
            <a:ext cx="4538880" cy="38894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79280" y="3068640"/>
            <a:ext cx="421164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 основании, подпушь извитая, на брюхе волосы даже гуще, чем на спине; сильный хвост шерстью не покры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79280" y="1413000"/>
            <a:ext cx="87138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Объясните следующие особенности волосяного               покрова зверьк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ех плотный, густой, хорошо смазан жиром; остевые волосы вверху шире, ч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50920" y="0"/>
            <a:ext cx="8496360" cy="38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Arial"/>
              </a:rPr>
              <a:t>Выхухоль приспособлена к жизни в вод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густой, плотный мех уменьшает отдачу тепл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жировая смазка предотвращает намокани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звитая подпушь содержит много воздуха, что создает теплоизолирующий слой, в том числе и на брюх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50920" y="3789360"/>
            <a:ext cx="381636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)хвост – не только хороший руль, но и теплоизлучатель на суше (предохраняет от перегрева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924360" y="3500280"/>
            <a:ext cx="4854600" cy="323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179280" y="260280"/>
            <a:ext cx="8786880" cy="698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 Black"/>
              </a:rPr>
              <a:t>А запах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видеть выхухоль нелегко: она очень осторожна, и лишь рано утром или вечером можно заметить торчащий из воды хоботок или голову высунувшегося подышать зверька. Жилая нора выхухоли имеет стойкий мускусный запах, выделяемый скоплением мускусных желез, расположенных в основании хвоста.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 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250920" y="620640"/>
            <a:ext cx="3889440" cy="546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 Black"/>
              </a:rPr>
              <a:t>След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 присутствии в водоеме выхухоли можно узнать по кучкам пустых раковин у входа в нору, расходящимся от норы траншеям-тропинкам в донном иле, зимой — по цепочкам пузырьков, скапливающихся подо льдом над тропами. Отпечаток лапы пятипалы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356000" y="1700280"/>
            <a:ext cx="4440240" cy="41227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684360" y="6237360"/>
            <a:ext cx="2158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79280" y="620640"/>
            <a:ext cx="3384720" cy="467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аспространена в бассейне Волги, Дона и Урала, завезена в верховья Днепра и на юг Западной Сибири. Обитает в заросших пойменных озерах и речных заводях с плесами открытой вод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3605040" y="1628640"/>
            <a:ext cx="5484960" cy="3886200"/>
          </a:xfrm>
          <a:prstGeom prst="rect">
            <a:avLst/>
          </a:prstGeom>
          <a:ln w="28440">
            <a:solidFill>
              <a:srgbClr val="993300"/>
            </a:solidFill>
            <a:miter/>
          </a:ln>
        </p:spPr>
      </p:pic>
      <p:sp>
        <p:nvSpPr>
          <p:cNvPr id="82" name=""/>
          <p:cNvSpPr/>
          <p:nvPr/>
        </p:nvSpPr>
        <p:spPr>
          <a:xfrm>
            <a:off x="1835280" y="363600"/>
            <a:ext cx="6049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Arial"/>
              </a:rPr>
              <a:t>Распространени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68360" y="5877000"/>
            <a:ext cx="8353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ыхухоль - эндемик Восточной Европ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1116000" y="189000"/>
            <a:ext cx="6269040" cy="6483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71280" y="404640"/>
            <a:ext cx="9072720" cy="5605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611280" y="907920"/>
            <a:ext cx="8143920" cy="50421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87" name=""/>
          <p:cNvSpPr/>
          <p:nvPr/>
        </p:nvSpPr>
        <p:spPr>
          <a:xfrm flipV="1">
            <a:off x="6012000" y="4149720"/>
            <a:ext cx="0" cy="22320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79280" y="2133720"/>
            <a:ext cx="1513080" cy="5032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484360" y="6524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826920" y="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Русская выхухоль на территории Пензенской обла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258920" y="4581360"/>
            <a:ext cx="3313080" cy="16560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5940000" y="692280"/>
            <a:ext cx="2016360" cy="1728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50920" y="6237360"/>
            <a:ext cx="871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3300"/>
                </a:solidFill>
                <a:latin typeface="Arial"/>
              </a:rPr>
              <a:t>Выхухоль — исконный обитатель поймы Хопр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79280" y="0"/>
            <a:ext cx="89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В 1990-е годы численность вида в России по экспертной оценке составляла около 35 тыс. особей, сосредоточенных в основном в бассейнах Волги (20 тыс. зверьков) и Дона (10 тыс. зверьков). В бассейнах Днепра и Урала по 1,5 тыс. особей и стольк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79280" y="3789360"/>
            <a:ext cx="896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79280" y="3429000"/>
            <a:ext cx="37432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же за Уралом, в бассейнах рек Уй и Тобол. К 2005 г. численность выхухоли снизилась до 25 тыс. особ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140360" y="3068640"/>
            <a:ext cx="4743360" cy="355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611280" y="0"/>
            <a:ext cx="8281800" cy="27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Статус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1-я категор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Вид, находящийся под угрозой исчезновени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39640" y="3357720"/>
            <a:ext cx="82821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ыхухоль включена в Красную книгу Российской Федерации и Красный список МСОП 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UCN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Международного Союза охраны природы. 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1957 г в России введён полный запрет охоты на выхухоль. Для ее охраны создано несколько заповедников и около 80 заказников. Предпринимались попытки разведения ее в неволе, но это оказалось исключительно сложным дел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 rot="20843400">
            <a:off x="539640" y="907560"/>
            <a:ext cx="5853240" cy="215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0000">
                    <a:alpha val="92000"/>
                  </a:srgbClr>
                </a:solidFill>
                <a:latin typeface="Monotype Corsiva"/>
              </a:rPr>
              <a:t>Русская выхухоль</a:t>
            </a:r>
            <a:endParaRPr b="1" lang="en-US" sz="7200" spc="1" strike="noStrike">
              <a:ln w="9360">
                <a:solidFill>
                  <a:srgbClr val="000000"/>
                </a:solidFill>
                <a:miter/>
              </a:ln>
              <a:solidFill>
                <a:srgbClr val="990000">
                  <a:alpha val="92000"/>
                </a:srgbClr>
              </a:solidFill>
              <a:latin typeface="Monotype Corsiva"/>
              <a:ea typeface="Monotype Corsiva"/>
            </a:endParaRPr>
          </a:p>
        </p:txBody>
      </p:sp>
      <p:sp>
        <p:nvSpPr>
          <p:cNvPr id="46" name=""/>
          <p:cNvSpPr/>
          <p:nvPr/>
        </p:nvSpPr>
        <p:spPr>
          <a:xfrm>
            <a:off x="5003640" y="333360"/>
            <a:ext cx="396108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Monotype Corsiva"/>
              </a:rPr>
              <a:t>Дела давно минувших дне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Monotype Corsiva"/>
              </a:rPr>
              <a:t>Преданья старины глубок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Monotype Corsiva"/>
              </a:rPr>
              <a:t>    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Monotype Corsiva"/>
              </a:rPr>
              <a:t>А.С.Пушк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50920" y="3284640"/>
            <a:ext cx="46814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огда-то очень давно (5 млн. лет назад) на Земле появился выхухоль - небольшой зверек, длина его в среднем 20 см, а вес примерно полкилограмма. Распространен он был по всей Европ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786200" y="2852640"/>
            <a:ext cx="4357800" cy="3710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740720" y="6597720"/>
            <a:ext cx="71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348000" y="6515280"/>
            <a:ext cx="107964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19640" y="6299280"/>
            <a:ext cx="792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19640" y="6370560"/>
            <a:ext cx="57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19640" y="6370560"/>
            <a:ext cx="64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826920" y="765000"/>
            <a:ext cx="8137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324000" y="2565360"/>
            <a:ext cx="3979800" cy="396576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4859280" y="2565360"/>
            <a:ext cx="3976920" cy="397656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2411280" y="0"/>
            <a:ext cx="590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Монеты России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476360" y="836640"/>
            <a:ext cx="6480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БАНК РОСС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 рубль 2000 го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ерия: Красная книга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еталл: серебр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0"/>
            <a:ext cx="8785080" cy="443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00"/>
                </a:solidFill>
                <a:latin typeface="Arial"/>
              </a:rPr>
              <a:t>Причины исчезновения</a:t>
            </a: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: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. Антропогенная трансформация пойменных местообитаний (вырубка прибрежных лесов, осушение водоемов, загрязнение их промышленными и сельскохозяйственными стоками, зарегулирование стока рек, создание водохранилищ, выпас скота по берегам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. Использование лесочных сетей (в них зверёк запутывается и погибает) и электроудочек (уничтожают кормовую базу животных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4356000" y="3660840"/>
            <a:ext cx="4264200" cy="31971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3844800"/>
            <a:ext cx="331164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 Выявлена прямая зависимость численности вида от суммы летне-осенних осадк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324000" y="836640"/>
            <a:ext cx="8820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 их сетях  умирают  редкие животные, в том числе, занесенная в Красную книгу выхухоль. Ее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численность на Земле сократилась </a:t>
            </a:r>
            <a:r>
              <a:rPr b="1" i="1" lang="en-US" sz="2400" spc="-1" strike="noStrike">
                <a:solidFill>
                  <a:srgbClr val="0033cc"/>
                </a:solidFill>
                <a:latin typeface="Arial"/>
              </a:rPr>
              <a:t>до 25 тысяч особей. 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95280" y="333360"/>
            <a:ext cx="87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00"/>
                </a:solidFill>
                <a:latin typeface="Arial"/>
              </a:rPr>
              <a:t>Браконьеры могут окончательно погубить выхухо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3995640" y="2637000"/>
            <a:ext cx="4945320" cy="37224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179280" y="2384280"/>
            <a:ext cx="3780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В Пензенской области остались лишь </a:t>
            </a:r>
            <a:r>
              <a:rPr b="1" i="1" lang="en-US" sz="2400" spc="-1" strike="noStrike">
                <a:solidFill>
                  <a:srgbClr val="0033cc"/>
                </a:solidFill>
                <a:latin typeface="Arial"/>
              </a:rPr>
              <a:t>несколько десятков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 этих животных.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итуация с выхухолью катастрофическая. Если в ближайшее время не принять кардинальных мер, это животное может исчезнуть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79280" y="1197000"/>
            <a:ext cx="8642520" cy="522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             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Внимание!!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Естественных врагов выхухоль не имеет. Опасными врагами выхухоль стали ондатра и американская норка, акклиматизированные в СССР и выпущенные в пределах ареала. В связи с изменением ландшафта пойм (вырубка деревьев, на которых выхухоль пережидает половодье) и уничтожением американской норкой и ондатрой численность выхухоль быстро сокращается. Необходима хорошо организованная и строгая охрана вида. В прошлом ценный промысловый ви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2922840" cy="2192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95256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0" y="1341360"/>
            <a:ext cx="882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19280" y="2205000"/>
            <a:ext cx="8424720" cy="52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С осени 2000 г. Центр охраны дикой природы при финансовой поддержке Фонда национальных парков осуществляет проект «Сохраним русскую выхухоль», посвященный оценке современного состояния популяции выхухоли, разработке конкретных мер ее сохранения и их воплощения на местах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0" y="981000"/>
            <a:ext cx="1428840" cy="163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324000" y="0"/>
            <a:ext cx="8640720" cy="634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Рекомендации по сохранению вида в естественных условиях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зучение современного распространения и численности выхухо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рганизация во вновь найденных местах обитания вида особо охраняемых природных территори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ыполнение решений по охране малых рек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апрет выпаса скота по берегам и неукоснительное соблюдение запрета лова рыбы вершами и сетями в водоемах, населенных выхухолью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826920" y="549360"/>
            <a:ext cx="792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Заповедники, в которых охраняется русская выхухо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859280" y="1628640"/>
            <a:ext cx="302436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ронеж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Хопер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ордов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к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ерженск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ронен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500720" y="5373720"/>
            <a:ext cx="36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аказников (около 8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395280" y="1341360"/>
            <a:ext cx="3365640" cy="505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79280" y="260280"/>
            <a:ext cx="8642520" cy="55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Заповедники и заказники Пензенской област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Государственный заказник «Земетчинский»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Государственный заказник «Лесной» (Земетчинский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район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Государственный заказник «Мещерский» (Сердобск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район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Узинский заказник (Уза—левый приток Суры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выхухолевый заповедник Хоперский (река Хопер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324000" y="0"/>
            <a:ext cx="8640720" cy="75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00"/>
                </a:solidFill>
                <a:latin typeface="Arial"/>
              </a:rPr>
              <a:t>Можем ли мы помочь?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ша помощь может заключаться в просветительской деятельност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 Проводить уроки о выхухоли и её охране в школах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 Учредить специальный День Выхухоли, во время которого проводить посвященные зверьку лекции, детские творческие конкурсы, викторины и спектакл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 Проводить для местного населения просветительские мероприятия, связанные с проблемой исчезновения выхухоли и использованием ставных лесочных сетей и электроудочек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 Привлекать журналистов к освещению проблем сохранения выхухоли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 Распространять информационные листовки об этой проблем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250920" y="0"/>
            <a:ext cx="8893080" cy="71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Краткие тезисы к уроку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усская выхухоль - реликтовый вид, эндемик Восточной Европ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прошлом ценный промысловый ви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. Вырубка прибрежных лесов, осушение водоемов, загрязнение их различными стоками, лов рыбы лесочными сетями и электроудочками, зарегулирование стока рек, создание водохранилищ, выпас скота по берегам - привели к катастрофическому сокращению численности ви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00"/>
                </a:solidFill>
                <a:latin typeface="Arial"/>
              </a:rPr>
              <a:t>4. Статус: 1-я категория. Вид, находящийся под угрозой   исчезнове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5. Выхухоль включена в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Красную книгу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России и Красный список МСОП - Международного Союза охраны природы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50920" y="333360"/>
            <a:ext cx="8893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тих животных называют живыми ископаемыми, ровесниками мамонта – ученые утверждают, что выхухоль почти не изменилась за последние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миллионов лет! Как и миллионы лет назад, это чудо с хоботом живет в поймах рек и по берегам озер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1258920" y="2276640"/>
            <a:ext cx="6726240" cy="443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430200" y="0"/>
            <a:ext cx="8713800" cy="68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Автор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юбавина Алевтина Борисовн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читель биологии МОУ СОШ с. Старая Камен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дрес: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405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ензенская облас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ензенский рай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. Старая Камен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л. Молодежная, дом 6, квартира 3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л. 8(412)3889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акс: 8(412)38906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-mail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evtina704@rambler.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68360" y="1052640"/>
            <a:ext cx="4464000" cy="54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Царство: Живот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ип: Хордов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дтип :Позвоноч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ласс: Млекопитающ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дкласс: Плацентар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ряд: Насекомояд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емейство: Выхухо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од: Выхухо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ид: Русская выхухо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(Desmana moschat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332000" y="404640"/>
            <a:ext cx="727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 Black"/>
              </a:rPr>
              <a:t>Систематическое</a:t>
            </a: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n-US" sz="2800" spc="-1" strike="noStrike">
                <a:solidFill>
                  <a:srgbClr val="990000"/>
                </a:solidFill>
                <a:latin typeface="Arial Black"/>
              </a:rPr>
              <a:t>положен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4491000" y="1125360"/>
            <a:ext cx="4314960" cy="5011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684360" y="189000"/>
            <a:ext cx="799128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ликтовое </a:t>
            </a: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семейство Выхухолей </a:t>
            </a:r>
            <a:r>
              <a:rPr b="1" i="1" lang="ru-RU" sz="2400" spc="-1" strike="noStrike">
                <a:solidFill>
                  <a:srgbClr val="cc0000"/>
                </a:solidFill>
                <a:latin typeface="Arial"/>
              </a:rPr>
              <a:t>(Desmanidae)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включает всего </a:t>
            </a: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два вид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 из которых оди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Пиренейская выхухоль </a:t>
            </a:r>
            <a:r>
              <a:rPr b="1" i="1" lang="ru-RU" sz="2400" spc="-1" strike="noStrike">
                <a:solidFill>
                  <a:srgbClr val="cc0000"/>
                </a:solidFill>
                <a:latin typeface="Arial"/>
              </a:rPr>
              <a:t>(Galemys pyrenaicus)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встречается в Пиренеях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 втор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Русская выхухоль </a:t>
            </a:r>
            <a:r>
              <a:rPr b="1" i="1" lang="en-US" sz="2400" spc="-1" strike="noStrike">
                <a:solidFill>
                  <a:srgbClr val="cc0000"/>
                </a:solidFill>
                <a:latin typeface="Arial"/>
              </a:rPr>
              <a:t>(Desmana moschat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чти исключительно в Росс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1979640" y="3213000"/>
            <a:ext cx="5178240" cy="3451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95280" y="907920"/>
            <a:ext cx="8359920" cy="58341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684360" y="0"/>
            <a:ext cx="792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993300"/>
                </a:solidFill>
                <a:latin typeface="Times New Roman"/>
              </a:rPr>
              <a:t>Места обитания русской выхухо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79280" y="0"/>
            <a:ext cx="8964720" cy="29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Arial Black"/>
              </a:rPr>
              <a:t>Внешний вид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линнохвостый зверек размером с крупную крысу, массой около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00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 легко узнаваем по длинному подвижному хоботку. На лапах перепонки, хвост голый, сплюснутый с боков. Окраска темно-бурая сверху, светлая снизу, с сильным блеском. Молодые сероваты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2340000" y="2637000"/>
            <a:ext cx="6337440" cy="4035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539640" y="0"/>
            <a:ext cx="8209080" cy="29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 Black"/>
              </a:rPr>
              <a:t>Питание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итается моллюсками, водными насекомыми, пиявками, лягушками и т.д., реже -корневищами растений. Двустворчатых моллюсков (беззубок и перловиц) зверек обычно не торопится разгрызать, а затаскивает в нору, где они вскоре раскрываются с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403280" y="2876400"/>
            <a:ext cx="6434280" cy="391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24000" y="260280"/>
            <a:ext cx="8640720" cy="25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 Black"/>
              </a:rPr>
              <a:t>Размножение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ожет производить потомство в любое время года. Беременность длится 40-45 дней. Самка приносит потомство раз в год, в выводке 1-5 детенышей, которые становятся половозрелыми в возрасте одного го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692360" y="2997360"/>
            <a:ext cx="5578560" cy="36781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9T14:42:24Z</dcterms:created>
  <dc:creator>Александр</dc:creator>
  <dc:description/>
  <dc:language>en-US</dc:language>
  <cp:lastModifiedBy>Алексей Новоселов</cp:lastModifiedBy>
  <dcterms:modified xsi:type="dcterms:W3CDTF">2009-07-10T05:43:14Z</dcterms:modified>
  <cp:revision>52</cp:revision>
  <dc:subject/>
  <dc:title>Слайд 1</dc:title>
</cp:coreProperties>
</file>